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B9931-26DF-4F90-AD5E-ECDD93DC0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7B8D8-6344-4B5B-8D6C-79A798FC1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32023-96BF-44CC-BC5C-39E714A2A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FA804-F38B-45E8-A408-5EC2A119C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E302A-C4F9-477D-96E6-9231667CA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BD4E7-6DFD-4214-95CD-B21A1F846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35347-1057-4F52-9827-26A6F208B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ACA1C-1D6B-421B-8BDF-ED67D5F0F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7A0DF-86E3-443F-9B9B-BB05884E2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9855F-DB39-43C7-A47E-7B63CC491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B1663-A1B6-4209-A375-2E2EEC144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2234A-8666-4756-A292-2BB3CA456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4047F-8562-414E-B468-43CE2B660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8E4CB-CC60-47F2-897B-0FAFE4967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526A1-61F5-4007-8A13-1C3F02E23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9FDE1-5607-4EF3-95B0-E33857A3B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CAE28-B1CC-4F37-B8D8-220016BD1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99D8C-B93F-4822-9CDF-4AC715A2B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ADB74-8FC6-45EE-8687-78BDE3341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2DBF8-C571-49F8-BC5C-CAF5BE2C3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5754B-AC3F-4D2E-9806-5C2A8527D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E8870-E0FD-4508-B8EE-9ECF89D43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FBBB3-B139-4C77-955E-3176F6EE1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CF871-6BA8-4D6B-835D-5344EF08A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3A0E5-F3AC-4AB1-A041-015BF6635D31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8A4AC-0CBB-4F44-AC4C-73D66DD8A0CA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0033"/>
                </a:solidFill>
                <a:latin typeface="Times New Roman"/>
              </a:rPr>
              <a:t>模块七  传送比较、逻辑运算类指令及应用</a:t>
            </a:r>
            <a:r>
              <a:rPr b="0" lang="zh-CN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55640" y="1628280"/>
            <a:ext cx="792000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目的要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学习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FX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系列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传送比较、逻辑运算类指令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掌握传送比较、逻辑运算类指令的编程方法和应用技巧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0033"/>
                </a:solidFill>
                <a:latin typeface="Times New Roman"/>
              </a:rPr>
              <a:t>模块七  传送比较、逻辑运算类指令及应用</a:t>
            </a:r>
            <a:r>
              <a:rPr b="0" lang="zh-CN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616400" y="1627920"/>
            <a:ext cx="1215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隶书"/>
              </a:rPr>
              <a:t>三、字逻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隶书"/>
              </a:rPr>
              <a:t>运算指令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4140360" y="1197000"/>
            <a:ext cx="4716360" cy="339408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171360" y="4657680"/>
            <a:ext cx="8972640" cy="22003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1473840" y="3067200"/>
            <a:ext cx="1540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各种字逻辑运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指令的运用情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00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0033"/>
                </a:solidFill>
                <a:latin typeface="Times New Roman"/>
              </a:rPr>
              <a:t>模块七  传送比较、逻辑运算类指令及应用</a:t>
            </a:r>
            <a:r>
              <a:rPr b="0" lang="zh-CN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7360" y="1614600"/>
            <a:ext cx="667800" cy="269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课 堂 演 示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346400" y="1340640"/>
            <a:ext cx="2434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隶书"/>
              </a:rPr>
              <a:t>使用功能指令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隶书"/>
              </a:rPr>
              <a:t>启－保－停控制电路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rcRect l="0" t="3560" r="0" b="1771"/>
          <a:stretch/>
        </p:blipFill>
        <p:spPr>
          <a:xfrm>
            <a:off x="4486320" y="836640"/>
            <a:ext cx="4657680" cy="602136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2"/>
          <a:srcRect l="0" t="0" r="53173" b="15238"/>
          <a:stretch/>
        </p:blipFill>
        <p:spPr>
          <a:xfrm>
            <a:off x="755640" y="3068640"/>
            <a:ext cx="367200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0033"/>
                </a:solidFill>
                <a:latin typeface="Times New Roman"/>
              </a:rPr>
              <a:t>模块七  传送比较、逻辑运算类指令及应用</a:t>
            </a:r>
            <a:r>
              <a:rPr b="0" lang="zh-CN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360" y="1614600"/>
            <a:ext cx="667800" cy="269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技 能 训 练</a:t>
            </a:r>
            <a:r>
              <a:rPr b="0" lang="zh-CN" sz="20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859920" y="22050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Arial"/>
                <a:ea typeface="华文隶书"/>
              </a:rPr>
              <a:t>实训目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258920" y="3228480"/>
            <a:ext cx="720072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掌握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FX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系列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传送比较、逻辑运算等指令的综合编程方法和应用技巧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进一步掌握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GX Developer V8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编程软件在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控制系统开发过程中的使用方法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7360" y="1614600"/>
            <a:ext cx="667800" cy="269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技 能 训 练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391400" y="3283560"/>
            <a:ext cx="1703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隶书"/>
              </a:rPr>
              <a:t>单按钮启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隶书"/>
              </a:rPr>
              <a:t>控制硬件电路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3870360" y="123840"/>
            <a:ext cx="5273640" cy="6734160"/>
          </a:xfrm>
          <a:prstGeom prst="rect">
            <a:avLst/>
          </a:prstGeom>
          <a:ln w="0">
            <a:noFill/>
          </a:ln>
        </p:spPr>
      </p:pic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0033"/>
                </a:solidFill>
                <a:latin typeface="Times New Roman"/>
              </a:rPr>
              <a:t>模块七  传送比较、逻辑运算类指令及应用</a:t>
            </a:r>
            <a:r>
              <a:rPr b="0" lang="zh-CN" sz="46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6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600" y="390600"/>
            <a:ext cx="667800" cy="269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技 能 训 练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rcRect l="0" t="0" r="0" b="52328"/>
          <a:stretch/>
        </p:blipFill>
        <p:spPr>
          <a:xfrm>
            <a:off x="0" y="77760"/>
            <a:ext cx="6516720" cy="480384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2"/>
          <a:srcRect l="0" t="47678" r="0" b="0"/>
          <a:stretch/>
        </p:blipFill>
        <p:spPr>
          <a:xfrm>
            <a:off x="3059280" y="1935000"/>
            <a:ext cx="6084720" cy="492300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5796000" y="404640"/>
            <a:ext cx="33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0033"/>
                </a:solidFill>
                <a:latin typeface="Arial"/>
              </a:rPr>
              <a:t>模块七  传送比较、逻辑运算类指令及应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0" y="5229360"/>
            <a:ext cx="3095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隶书"/>
              </a:rPr>
              <a:t>单按钮启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隶书"/>
              </a:rPr>
              <a:t>控制硬件电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695960" y="1614600"/>
            <a:ext cx="667800" cy="269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技 能 训 练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0033"/>
                </a:solidFill>
                <a:latin typeface="Times New Roman"/>
              </a:rPr>
              <a:t>模块七  传送比较、逻辑运算类指令及应用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-12960" y="1683000"/>
            <a:ext cx="729000" cy="258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华文行楷"/>
              </a:rPr>
              <a:t>边学边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06d10a" descr=""/>
          <p:cNvPicPr/>
          <p:nvPr/>
        </p:nvPicPr>
        <p:blipFill>
          <a:blip r:embed="rId1"/>
          <a:stretch/>
        </p:blipFill>
        <p:spPr>
          <a:xfrm>
            <a:off x="2700360" y="2708280"/>
            <a:ext cx="3384360" cy="9810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3203640" y="3716280"/>
            <a:ext cx="21844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图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-10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题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11280" y="1916640"/>
            <a:ext cx="8208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填空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图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-1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中的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指令在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005</a:t>
            </a:r>
            <a:r>
              <a:rPr b="0" lang="zh-CN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时，将</a:t>
            </a:r>
            <a:r>
              <a:rPr b="0" lang="zh-CN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和</a:t>
            </a:r>
            <a:r>
              <a:rPr b="0" lang="zh-CN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中的</a:t>
            </a:r>
            <a:r>
              <a:rPr b="0" lang="zh-CN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位数据加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-858960" y="3333600"/>
            <a:ext cx="360" cy="36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47640" y="4193280"/>
            <a:ext cx="8245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计数脉冲和复位信号分别由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00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00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提供，在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00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为“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”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时，将计数器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当前值转换为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CD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码后送到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00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～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013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请设计出梯形图程序。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计数值应限制在什么范围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005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为“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”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时，用定时器中断每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s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将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00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～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017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组成的位元件组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4Y00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加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请设计主程序和中断子程序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0033"/>
                </a:solidFill>
                <a:latin typeface="Times New Roman"/>
              </a:rPr>
              <a:t>模块七  传送比较、逻辑运算类指令及应用</a:t>
            </a:r>
            <a:r>
              <a:rPr b="0" lang="zh-CN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146760" y="1556280"/>
            <a:ext cx="243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隶书"/>
              </a:rPr>
              <a:t>一、传送与比较指令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56520" y="2132640"/>
            <a:ext cx="139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．比较指令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556000" y="2205000"/>
            <a:ext cx="6432480" cy="19368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1116000" y="4221000"/>
            <a:ext cx="4059360" cy="261324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6072480" y="5358600"/>
            <a:ext cx="208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7-1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比较指令的应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0033"/>
                </a:solidFill>
                <a:latin typeface="Times New Roman"/>
              </a:rPr>
              <a:t>模块七  传送比较、逻辑运算类指令及应用</a:t>
            </a:r>
            <a:r>
              <a:rPr b="0" lang="zh-CN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146400" y="1556280"/>
            <a:ext cx="243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隶书"/>
              </a:rPr>
              <a:t>一、传送与比较指令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005480" y="2132640"/>
            <a:ext cx="17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．区间比较指令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094200" y="2276640"/>
            <a:ext cx="6049800" cy="17776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1100160" y="4064040"/>
            <a:ext cx="4032360" cy="275904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5813640" y="5157000"/>
            <a:ext cx="239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7-2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区间比较指令的应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0033"/>
                </a:solidFill>
                <a:latin typeface="Times New Roman"/>
              </a:rPr>
              <a:t>模块七  传送比较、逻辑运算类指令及应用</a:t>
            </a:r>
            <a:r>
              <a:rPr b="0" lang="zh-CN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49240" y="2014200"/>
            <a:ext cx="170316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．数据传送指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146400" y="1556280"/>
            <a:ext cx="243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隶书"/>
              </a:rPr>
              <a:t>一、传送与比较指令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309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T6" descr=""/>
          <p:cNvPicPr/>
          <p:nvPr/>
        </p:nvPicPr>
        <p:blipFill>
          <a:blip r:embed="rId1"/>
          <a:srcRect l="896" t="4481" r="1392" b="4822"/>
          <a:stretch/>
        </p:blipFill>
        <p:spPr>
          <a:xfrm>
            <a:off x="3132000" y="2133720"/>
            <a:ext cx="6012000" cy="12222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2268360" y="3573360"/>
            <a:ext cx="3311640" cy="61452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941760" y="4345560"/>
            <a:ext cx="17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．移位传送指令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2916360" y="4365720"/>
            <a:ext cx="6092640" cy="13460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4"/>
          <a:stretch/>
        </p:blipFill>
        <p:spPr>
          <a:xfrm>
            <a:off x="2268360" y="5805360"/>
            <a:ext cx="4608720" cy="72252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345680" y="3572640"/>
            <a:ext cx="52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例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74040" y="5875920"/>
            <a:ext cx="52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例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0033"/>
                </a:solidFill>
                <a:latin typeface="Times New Roman"/>
              </a:rPr>
              <a:t>模块七  传送比较、逻辑运算类指令及应用</a:t>
            </a:r>
            <a:r>
              <a:rPr b="0" lang="zh-CN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146400" y="1556280"/>
            <a:ext cx="243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隶书"/>
              </a:rPr>
              <a:t>一、传送与比较指令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76520" y="2059920"/>
            <a:ext cx="170316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．取反传送指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987640" y="2133720"/>
            <a:ext cx="6033960" cy="132552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1345680" y="3572640"/>
            <a:ext cx="52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例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45680" y="5949000"/>
            <a:ext cx="52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例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2124000" y="3645000"/>
            <a:ext cx="3527640" cy="67464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944640" y="4435920"/>
            <a:ext cx="157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．块传送指令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2771640" y="4437000"/>
            <a:ext cx="6229440" cy="136836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2124000" y="5992920"/>
            <a:ext cx="4162680" cy="74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0033"/>
                </a:solidFill>
                <a:latin typeface="Times New Roman"/>
              </a:rPr>
              <a:t>模块七  传送比较、逻辑运算类指令及应用</a:t>
            </a:r>
            <a:r>
              <a:rPr b="0" lang="zh-CN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146400" y="1556280"/>
            <a:ext cx="243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隶书"/>
              </a:rPr>
              <a:t>一、传送与比较指令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920880" y="2059920"/>
            <a:ext cx="170316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．多点传送指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3132000" y="2133720"/>
            <a:ext cx="5919840" cy="13143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2411280" y="3573360"/>
            <a:ext cx="3529080" cy="628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1005480" y="4364640"/>
            <a:ext cx="17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．数据交换指令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3132000" y="4365720"/>
            <a:ext cx="5921640" cy="128268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2340000" y="5805360"/>
            <a:ext cx="3527280" cy="68580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1345680" y="3572640"/>
            <a:ext cx="52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例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345680" y="5875920"/>
            <a:ext cx="52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例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0033"/>
                </a:solidFill>
                <a:latin typeface="Times New Roman"/>
              </a:rPr>
              <a:t>模块七  传送比较、逻辑运算类指令及应用</a:t>
            </a:r>
            <a:r>
              <a:rPr b="0" lang="zh-CN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146400" y="1556280"/>
            <a:ext cx="243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隶书"/>
              </a:rPr>
              <a:t>一、传送与比较指令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17400" y="2059560"/>
            <a:ext cx="157644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．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BCD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变换指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2771640" y="2133720"/>
            <a:ext cx="5977080" cy="132552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2340000" y="3573360"/>
            <a:ext cx="3166920" cy="67320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630360" y="4219920"/>
            <a:ext cx="190440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．二进制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B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变换指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3"/>
          <a:srcRect l="0" t="0" r="0" b="4227"/>
          <a:stretch/>
        </p:blipFill>
        <p:spPr>
          <a:xfrm>
            <a:off x="2830680" y="4365720"/>
            <a:ext cx="5933880" cy="127476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4"/>
          <a:stretch/>
        </p:blipFill>
        <p:spPr>
          <a:xfrm>
            <a:off x="2268360" y="5805360"/>
            <a:ext cx="3167280" cy="50508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1345680" y="3572640"/>
            <a:ext cx="52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例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418760" y="5804640"/>
            <a:ext cx="52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例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0033"/>
                </a:solidFill>
                <a:latin typeface="Times New Roman"/>
              </a:rPr>
              <a:t>模块七  传送比较、逻辑运算类指令及应用</a:t>
            </a:r>
            <a:r>
              <a:rPr b="0" lang="zh-CN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302280" y="1556280"/>
            <a:ext cx="2684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二、加</a:t>
            </a: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指令与减</a:t>
            </a: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指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49880" y="2203920"/>
            <a:ext cx="152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．加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指令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49880" y="3643920"/>
            <a:ext cx="152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．减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指令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4075" r="0" b="2564"/>
          <a:stretch/>
        </p:blipFill>
        <p:spPr>
          <a:xfrm>
            <a:off x="2340000" y="2276640"/>
            <a:ext cx="6048360" cy="128880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2411280" y="3716280"/>
            <a:ext cx="5954760" cy="131436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3348000" y="5157720"/>
            <a:ext cx="3456000" cy="156384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1922040" y="5660280"/>
            <a:ext cx="52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例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0033"/>
                </a:solidFill>
                <a:latin typeface="Times New Roman"/>
              </a:rPr>
              <a:t>模块七  传送比较、逻辑运算类指令及应用</a:t>
            </a:r>
            <a:r>
              <a:rPr b="0" lang="zh-CN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439880" y="1556280"/>
            <a:ext cx="42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隶书"/>
              </a:rPr>
              <a:t>三、字逻辑运算指令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900000" y="2228760"/>
            <a:ext cx="792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字逻辑运算指令包括字逻辑与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WAND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FNC 26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、字逻辑或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WOR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FNC 27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、字逻辑异或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WXOR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FNC 28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和求补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NEG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FNC 29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指令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476360" y="3357720"/>
            <a:ext cx="6912000" cy="151128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2"/>
          <a:srcRect l="0" t="2316" r="0" b="2779"/>
          <a:stretch/>
        </p:blipFill>
        <p:spPr>
          <a:xfrm>
            <a:off x="1476360" y="5013360"/>
            <a:ext cx="6889680" cy="148896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842400" y="3788640"/>
            <a:ext cx="52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例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2T07:07:48Z</dcterms:created>
  <dc:creator>雨林木风</dc:creator>
  <dc:description/>
  <dc:language>en-US</dc:language>
  <cp:lastModifiedBy>雨林木风</cp:lastModifiedBy>
  <dcterms:modified xsi:type="dcterms:W3CDTF">2010-10-08T10:14:12Z</dcterms:modified>
  <cp:revision>114</cp:revision>
  <dc:subject/>
  <dc:title>模块二  S7-200系列PLC的基本结构 </dc:title>
</cp:coreProperties>
</file>